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C8D-CC65-4E07-8132-6566136E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87E1-6E96-4433-AF84-50E35599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221C-0276-4EB9-AEFB-B336FF32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40B-C99C-4C23-BC6A-C5DCDCDB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BF9-7C7F-4FC2-9063-CFCCF3C5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72C-0329-4A9C-90C7-12EC8D5B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5D4-4EDF-4A1C-AD7A-89F756AE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79D-6BC8-4889-B16B-65FFD463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84A-B14D-4823-899B-20C28CD9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6CF-2A65-460B-87EE-30A17E9D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8DD-7AD8-4547-BB4A-C3A2BB6A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DAC7-A9B6-4B09-AF6F-E15CC0A7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F7BF-BE0B-4665-98EC-3661040B1C7A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C003-09F1-4FC5-98D6-3B8160ED939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eb.mac.home/arakhne/Home/Hom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google.it/url?sa=i&amp;rct=j&amp;q=&amp;esrc=s&amp;frm=1&amp;source=images&amp;cd=&amp;cad=rja&amp;docid=88poNpfG62vmUM&amp;tbnid=E99dv8zEQtDBdM:&amp;ved=0CAUQjRw&amp;url=http://www.assinews.it/articolo.aspx?art_id=607&amp;ei=4O4XUdbUGIvIswbpuoCgDA&amp;bvm=bv.42080656,d.Yms&amp;psig=AFQjCNETuc3UDX8mHrf60SH10EGIEyhsKg&amp;ust=1360609292369209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 rot="20644800">
            <a:off x="1332000" y="1789200"/>
            <a:ext cx="2558880" cy="2458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4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KIT PER LA DIDAT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98480" y="112500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98989"/>
                </a:solidFill>
                <a:latin typeface="Calibri"/>
              </a:rPr>
              <a:t>dalle abilità alle competen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 rot="1167000">
            <a:off x="5266800" y="4339800"/>
            <a:ext cx="2433960" cy="2433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1042920" y="4853160"/>
            <a:ext cx="3343320" cy="1952280"/>
          </a:xfrm>
          <a:prstGeom prst="rect">
            <a:avLst/>
          </a:prstGeom>
          <a:ln w="0">
            <a:noFill/>
          </a:ln>
        </p:spPr>
      </p:pic>
      <p:sp>
        <p:nvSpPr>
          <p:cNvPr id="46" name="Segnaposto piè di pagina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Calibri"/>
              </a:rPr>
              <a:t>Ambito di sviluppo delle competenz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rea della costruzione del 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rea della relazione con gli alt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rea del rapporto con la realtà naturale e socia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Area della costruzione del 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97160"/>
          <a:ext cx="6096240" cy="35971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ze chiave di cittadina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lls of li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rare a d impar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ett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iero cri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iero cre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 solv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ision Ma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one dello st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Area della relazione con gli altr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9640" y="981000"/>
          <a:ext cx="8064720" cy="5524560"/>
        </p:xfrm>
        <a:graphic>
          <a:graphicData uri="http://schemas.openxmlformats.org/drawingml/2006/table">
            <a:tbl>
              <a:tblPr/>
              <a:tblGrid>
                <a:gridCol w="4032360"/>
                <a:gridCol w="4032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ze chiave di cittadina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lls of li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unic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iero critic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iero creativ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 solv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aborare e partecip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unicazione effica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coscienz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one delle emozion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atia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one dello stre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Area del rapporto con la realtà naturale e social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1484280"/>
          <a:ext cx="7607160" cy="4024440"/>
        </p:xfrm>
        <a:graphic>
          <a:graphicData uri="http://schemas.openxmlformats.org/drawingml/2006/table">
            <a:tbl>
              <a:tblPr/>
              <a:tblGrid>
                <a:gridCol w="3803760"/>
                <a:gridCol w="3803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ze chiave di cittadina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lls of li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solvere problem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are collegamenti e relazio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quisire ed interpretare l’informazi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iero cri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iero cre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 solv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ision Ma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e Life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Segnaposto contenuto 2" descr=""/>
          <p:cNvPicPr/>
          <p:nvPr/>
        </p:nvPicPr>
        <p:blipFill>
          <a:blip r:embed="rId1"/>
          <a:stretch/>
        </p:blipFill>
        <p:spPr>
          <a:xfrm>
            <a:off x="281160" y="1407960"/>
            <a:ext cx="8412120" cy="4724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 rot="20249400">
            <a:off x="5027760" y="2063520"/>
            <a:ext cx="3484440" cy="2319120"/>
          </a:xfrm>
          <a:prstGeom prst="rect">
            <a:avLst/>
          </a:prstGeom>
          <a:ln w="0">
            <a:noFill/>
          </a:ln>
        </p:spPr>
      </p:pic>
      <p:sp>
        <p:nvSpPr>
          <p:cNvPr id="95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Sfera cognitiva o sfera emotiv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935000"/>
          <a:ext cx="8569440" cy="2286000"/>
        </p:xfrm>
        <a:graphic>
          <a:graphicData uri="http://schemas.openxmlformats.org/drawingml/2006/table">
            <a:tbl>
              <a:tblPr/>
              <a:tblGrid>
                <a:gridCol w="1714680"/>
                <a:gridCol w="1382760"/>
                <a:gridCol w="2179440"/>
                <a:gridCol w="1577880"/>
                <a:gridCol w="17146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iero crit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iero cre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blem 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ision ma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unicazione effic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zioni interpersona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sti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at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one delle emozio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one dello st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8" name="Ovale 4"/>
          <p:cNvSpPr/>
          <p:nvPr/>
        </p:nvSpPr>
        <p:spPr>
          <a:xfrm>
            <a:off x="179280" y="4221000"/>
            <a:ext cx="4608720" cy="72072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b050"/>
                </a:solidFill>
                <a:latin typeface="Calibri"/>
              </a:rPr>
              <a:t>Sfera cogni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e 5"/>
          <p:cNvSpPr/>
          <p:nvPr/>
        </p:nvSpPr>
        <p:spPr>
          <a:xfrm>
            <a:off x="3967200" y="4221000"/>
            <a:ext cx="4608360" cy="72072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Sfera emo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ccia bidirezionale orizzontale 6"/>
          <p:cNvSpPr/>
          <p:nvPr/>
        </p:nvSpPr>
        <p:spPr>
          <a:xfrm>
            <a:off x="631800" y="5157720"/>
            <a:ext cx="7921800" cy="432000"/>
          </a:xfrm>
          <a:prstGeom prst="leftRight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egnaposto piè di pagina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Autocoscienza</a:t>
            </a:r>
            <a:br>
              <a:rPr sz="4000"/>
            </a:b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(capacità di leggere dentro se stess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Conoscere se stessi, il proprio carattere, i propri bisogni e desideri, i propri punti deboli ed i propri punti forti; è condizione indispensabile per la gestione dello stress, la comunicazione efficace, le relazioni interpersonali positive e l’empat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63360" y="-162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 rot="905400">
            <a:off x="5659560" y="2781360"/>
            <a:ext cx="3213000" cy="2889360"/>
          </a:xfrm>
          <a:prstGeom prst="rect">
            <a:avLst/>
          </a:prstGeom>
          <a:ln w="0">
            <a:noFill/>
          </a:ln>
        </p:spPr>
      </p:pic>
      <p:sp>
        <p:nvSpPr>
          <p:cNvPr id="106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 rot="1273200">
            <a:off x="5940360" y="98064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Gestione delle emozioni</a:t>
            </a:r>
            <a:br>
              <a:rPr sz="4000"/>
            </a:b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(capacità di riconoscere le proprie emozioni e quelle degli altr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2181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«essere consapevoli di come le emozioni influenzano il comportamento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 modo 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«riuscire a gestirle in modo appropriato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 a regolarle opportunamen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Gestione dello stress</a:t>
            </a:r>
            <a:br>
              <a:rPr sz="4000"/>
            </a:br>
            <a:r>
              <a:rPr b="0" i="1" lang="it-IT" sz="3600" spc="-1" strike="noStrike">
                <a:solidFill>
                  <a:srgbClr val="000000"/>
                </a:solidFill>
                <a:latin typeface="Calibri"/>
              </a:rPr>
              <a:t>(capacità di governare le tension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1633680"/>
            <a:ext cx="48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aper riconoscere e governare le fonti di tens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«sia tramite cambiamenti nell’ambiente o nello stile di vita, sia tramite la capacità di rilassarsi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2881080" cy="4197600"/>
          </a:xfrm>
          <a:prstGeom prst="rect">
            <a:avLst/>
          </a:prstGeom>
          <a:ln w="0">
            <a:noFill/>
          </a:ln>
        </p:spPr>
      </p:pic>
      <p:sp>
        <p:nvSpPr>
          <p:cNvPr id="114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27000"/>
            <a:ext cx="1990800" cy="2295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Senso critico</a:t>
            </a:r>
            <a:br>
              <a:rPr sz="4000"/>
            </a:b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(capacità di analizzare e valutare le situazion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ap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c0504d"/>
                </a:solidFill>
                <a:latin typeface="Calibri"/>
              </a:rPr>
              <a:t>«</a:t>
            </a:r>
            <a:r>
              <a:rPr b="0" i="1" lang="it-IT" sz="3000" spc="-1" strike="noStrike">
                <a:solidFill>
                  <a:srgbClr val="c0504d"/>
                </a:solidFill>
                <a:latin typeface="Calibri"/>
              </a:rPr>
              <a:t>analizzare informazioni ed esperienze in modo oggettivo, valutandone vantaggi e svantaggi, al fine di arrivare ad una decisione più consapevole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Riconoscendo e valutan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c0504d"/>
                </a:solidFill>
                <a:latin typeface="Calibri"/>
              </a:rPr>
              <a:t>«</a:t>
            </a:r>
            <a:r>
              <a:rPr b="0" i="1" lang="it-IT" sz="3000" spc="-1" strike="noStrike">
                <a:solidFill>
                  <a:srgbClr val="c0504d"/>
                </a:solidFill>
                <a:latin typeface="Calibri"/>
              </a:rPr>
              <a:t>i diversi fattori che influenzano gli atteggiamenti e il comportamento , quali ad esempio la pressione dei coetanei e il comportamento dei mass media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osa si intende per </a:t>
            </a: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competenz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4760" y="335772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termine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COMPETENT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indica una persona che in un certo ambito sociale, di studio o di lavoro, è in grado di svolgere bene un’attività non generica, che richiede conoscenze teoriche, pratiche e abilità più o meno comples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63360" y="-162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 rot="20511600">
            <a:off x="1272960" y="1490400"/>
            <a:ext cx="3057480" cy="1495440"/>
          </a:xfrm>
          <a:prstGeom prst="rect">
            <a:avLst/>
          </a:prstGeom>
          <a:ln w="0">
            <a:noFill/>
          </a:ln>
        </p:spPr>
      </p:pic>
      <p:sp>
        <p:nvSpPr>
          <p:cNvPr id="51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 rot="1518600">
            <a:off x="5165640" y="2357280"/>
            <a:ext cx="4003920" cy="2664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76240" y="3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Decision making</a:t>
            </a:r>
            <a:br>
              <a:rPr sz="4000"/>
            </a:b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(capacità di prendere decision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5424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aper decidere in modo consapevole e costruttiv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c0504d"/>
                </a:solidFill>
                <a:latin typeface="Calibri"/>
              </a:rPr>
              <a:t>«nelle diverse situazioni e contesti di vita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aper elabor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c0504d"/>
                </a:solidFill>
                <a:latin typeface="Calibri"/>
              </a:rPr>
              <a:t>«in modo attivo il processo decisionale può avere implicazioni positive sulla salute attraverso una valutazione delle diverse opzioni e delle conseguenze che esse implicano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br>
              <a:rPr sz="4000"/>
            </a:br>
            <a:r>
              <a:rPr b="0" i="1" lang="it-IT" sz="3600" spc="-1" strike="noStrike">
                <a:solidFill>
                  <a:srgbClr val="000000"/>
                </a:solidFill>
                <a:latin typeface="Calibri"/>
              </a:rPr>
              <a:t>(capacità di risolvere i problem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aper affrontare e risolvere in modo costruttivi i diversi problemi 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«se lasciati irrisolti, possono causare stress mentale e tensioni fisich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39760" y="256536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3564000" y="2924280"/>
            <a:ext cx="2209680" cy="2066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6654960" y="25718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28" name="Segnaposto piè di pagina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70640" cy="1663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Creatività </a:t>
            </a:r>
            <a:br>
              <a:rPr sz="4000"/>
            </a:b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(capacità di affrontare in modo flessibile ogni genere di situazio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aper trovare soluzioni e idee originali, competenza 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«contribuisce sia al decision making che al problem solving, permettendo di esplorare le alternative possibili e le conseguenze delle diverse opzioni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6862680" y="4867200"/>
            <a:ext cx="2295720" cy="19908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Comunicazione efficace</a:t>
            </a:r>
            <a:br>
              <a:rPr sz="4000"/>
            </a:br>
            <a:r>
              <a:rPr b="0" i="1" lang="it-IT" sz="3600" spc="-1" strike="noStrike">
                <a:solidFill>
                  <a:srgbClr val="000000"/>
                </a:solidFill>
                <a:latin typeface="Calibri"/>
              </a:rPr>
              <a:t>(capacità di esprimers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apersi esprimere in ogni situazione particolare sia a livello verbale che non verbal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0504d"/>
                </a:solidFill>
                <a:latin typeface="Calibri"/>
              </a:rPr>
              <a:t>«</a:t>
            </a:r>
            <a:r>
              <a:rPr b="0" i="1" lang="it-IT" sz="2800" spc="-1" strike="noStrike">
                <a:solidFill>
                  <a:srgbClr val="c0504d"/>
                </a:solidFill>
                <a:latin typeface="Calibri"/>
              </a:rPr>
              <a:t>in modo efficace e congruo alla propria cultura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chiaran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« opinioni e desideri, ma anche bisogni e sentimenti, ascoltando con attenzione gli altri per capirli e chiedendo se necessario, aiuto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 rot="1125600">
            <a:off x="6975360" y="2204640"/>
            <a:ext cx="2152800" cy="2124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Empatia</a:t>
            </a:r>
            <a:br>
              <a:rPr sz="4000"/>
            </a:b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(capacità di comprendere gli alt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6518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aper comprendere ed ascoltare gli altri, immedesimandosi in l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«anche in situazioni non familiari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ccettandoli e comprendendoli e migliorando le relazioni sociali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«soprattutto nei confronti di diversità etniche e culturali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 rot="19512000">
            <a:off x="4998960" y="2879640"/>
            <a:ext cx="3865680" cy="23734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2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Skills per le relazioni interpersonali</a:t>
            </a:r>
            <a:br>
              <a:rPr sz="4000"/>
            </a:b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(capacità di interagire e relazionarsi con gli altri in modo positiv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apersi mettere in relazione costruttiva con gli al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«saper creare e mantenere relazioni significativ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a anch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0504d"/>
                </a:solidFill>
                <a:latin typeface="Calibri"/>
              </a:rPr>
              <a:t>«</a:t>
            </a: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essere in grado di interrompere le relazioni in modo costruttivo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iblliograf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Kit bussola: teorie, metodologie e strumenti didattici ed educativi al servizio della didattica  a cura di Ercoli Lu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itograf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lberto Pian, </a:t>
            </a:r>
            <a:r>
              <a:rPr b="0" lang="it-IT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eb.mac.home/arakhne/Home/Home.html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fficio scolastico provinciale di Mil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www.milano.istruzione.lombardia.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Nella scuola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termine «</a:t>
            </a:r>
            <a:r>
              <a:rPr b="1" lang="it-IT" sz="3000" spc="-1" strike="noStrike">
                <a:solidFill>
                  <a:srgbClr val="ff0000"/>
                </a:solidFill>
                <a:latin typeface="Calibri"/>
              </a:rPr>
              <a:t>competenza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» viene usato per indicare gli obiettivi formativi da raggiungersi da parte degli studenti, sia in relazione al sistema nel suo complesso sia alla specifica offerta formativa delle singole istituzioni scolastich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Attraverso le ultime riforme (Berlinguer-Moratti-Fioroni) si è passati dal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PROGRAMMA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alla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PROGRAMMAZIONE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i è rovesciata la prospettiva dagli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input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di insegnamento (i programmi) agli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output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di apprendimento (i risultati in termini di competenze acquisit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encrypted-tbn1.gstatic.com/images?q=tbn:ANd9GcSS2b--PUMJGy53qF8yQeHcBgFRjeSY21-w8Bs0C8M21uALCM0A"/>
          <p:cNvPicPr/>
          <p:nvPr/>
        </p:nvPicPr>
        <p:blipFill>
          <a:blip r:embed="rId1"/>
          <a:stretch/>
        </p:blipFill>
        <p:spPr>
          <a:xfrm>
            <a:off x="7462800" y="1197000"/>
            <a:ext cx="1657440" cy="1655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Quali  competenze chiave deve acquisire un alunno,  al termine dell’istruzione obbligatori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989000"/>
            <a:ext cx="7859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L’intreccio tra gli assi culturali strategici (dei linguaggi, matematico, scientifico tecnologico, storico sociale) e le competenze trasversali permette la costruzione ed il conseguimento delle competenze chiave di cittadinanza, che, attesa la natura orientativa e propedeutica dell’istruzione obbligatoria,  si ritiene di dover proporre come obiettivo da raggiungere al suo termi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ol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60" name="Segnaposto contenuto 2" descr=""/>
          <p:cNvPicPr/>
          <p:nvPr/>
        </p:nvPicPr>
        <p:blipFill>
          <a:blip r:embed="rId2"/>
          <a:stretch/>
        </p:blipFill>
        <p:spPr>
          <a:xfrm>
            <a:off x="231840" y="712800"/>
            <a:ext cx="8680320" cy="460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assinews.it/public/photogallery/Fotolia_martello.jpg">
            <a:hlinkClick r:id="rId3"/>
          </p:cNvPr>
          <p:cNvPicPr/>
          <p:nvPr/>
        </p:nvPicPr>
        <p:blipFill>
          <a:blip r:embed="rId4"/>
          <a:stretch/>
        </p:blipFill>
        <p:spPr>
          <a:xfrm rot="20802600">
            <a:off x="468360" y="3573360"/>
            <a:ext cx="2476440" cy="2476440"/>
          </a:xfrm>
          <a:prstGeom prst="rect">
            <a:avLst/>
          </a:prstGeom>
          <a:ln w="0">
            <a:noFill/>
          </a:ln>
        </p:spPr>
      </p:pic>
      <p:sp>
        <p:nvSpPr>
          <p:cNvPr id="62" name="CasellaDiTesto 3"/>
          <p:cNvSpPr/>
          <p:nvPr/>
        </p:nvSpPr>
        <p:spPr>
          <a:xfrm>
            <a:off x="2916360" y="568152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i possono suddividere in tre ambiti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371520" y="-146160"/>
            <a:ext cx="9266400" cy="75470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Quali ambiti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f497d"/>
                </a:solidFill>
                <a:latin typeface="Calibri"/>
              </a:rPr>
              <a:t>La costruzione del s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f497d"/>
                </a:solidFill>
                <a:latin typeface="Calibri"/>
              </a:rPr>
              <a:t>La costruzione di corrette e significative relazioni con gli alt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f497d"/>
                </a:solidFill>
                <a:latin typeface="Calibri"/>
              </a:rPr>
              <a:t>Una corretta e produttiva interazione con la realtà sociale e natura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 rot="20814000">
            <a:off x="2123640" y="1550520"/>
            <a:ext cx="4751640" cy="3089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Come raggiungere queste competenze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640" y="4868640"/>
            <a:ext cx="8229600" cy="14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0504d"/>
                </a:solidFill>
                <a:latin typeface="Calibri"/>
              </a:rPr>
              <a:t>ATTRAVERSO LO SVILUPPO DELLE ABILITA’ SOCIALI (SKIL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 rot="841200">
            <a:off x="5528880" y="4157640"/>
            <a:ext cx="3611520" cy="2395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o sviluppo delle abilità sociali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(skill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er l’OMS, le life skills sono abilità che permettono di gestire efficacemente le richieste e le sfide della vita quotidia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ermettono all’individuo di adottare strategie efficaci per affrontare i diversi problemi che si presentano nel corso della vi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151160" y="4149720"/>
            <a:ext cx="4969080" cy="2428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scuola è il luogo privilegiato di promozione delle life ski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ogni scuola deve mettere in grado i bambini ed adolescenti di imparare ad affrontare gli aspetti critici della vita, sviluppando le life skills attraverso programmi educativi specifici individuati come strategia ottimale per raggiungere l’obiettivo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5:48:06Z</dcterms:created>
  <dc:creator>Maria Pia</dc:creator>
  <dc:description/>
  <dc:language>en-US</dc:language>
  <cp:lastModifiedBy>Smauro</cp:lastModifiedBy>
  <dcterms:modified xsi:type="dcterms:W3CDTF">2013-02-24T18:21:35Z</dcterms:modified>
  <cp:revision>60</cp:revision>
  <dc:subject/>
  <dc:title>KIT PER LA DIDATTICA</dc:title>
</cp:coreProperties>
</file>